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6.png" ContentType="image/png"/>
  <Override PartName="/ppt/media/chimes.wav" ContentType="audio/x-wav"/>
  <Override PartName="/ppt/media/image21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camera.wav" ContentType="audio/x-wav"/>
  <Override PartName="/ppt/media/breeze.wav" ContentType="audio/x-wav"/>
  <Override PartName="/ppt/media/suction.wav" ContentType="audio/x-wav"/>
  <Override PartName="/ppt/media/image4.jpeg" ContentType="image/jpeg"/>
  <Override PartName="/ppt/media/image2.png" ContentType="image/png"/>
  <Override PartName="/ppt/media/whoosh.wav" ContentType="audio/x-wav"/>
  <Override PartName="/ppt/media/image8.jpeg" ContentType="image/jpeg"/>
  <Override PartName="/ppt/media/voltage.wav" ContentType="audio/x-wav"/>
  <Override PartName="/ppt/media/image7.png" ContentType="image/png"/>
  <Override PartName="/ppt/media/image1.jpeg" ContentType="image/jpeg"/>
  <Override PartName="/ppt/media/image20.png" ContentType="image/png"/>
  <Override PartName="/ppt/media/hammer.wav" ContentType="audio/x-wav"/>
  <Override PartName="/ppt/media/image12.jpeg" ContentType="image/jpeg"/>
  <Override PartName="/ppt/media/image22.jpeg" ContentType="image/jpeg"/>
  <Override PartName="/ppt/media/image9.png" ContentType="image/png"/>
  <Override PartName="/ppt/media/image13.jpeg" ContentType="image/jpeg"/>
  <Override PartName="/ppt/media/image23.png" ContentType="image/png"/>
  <Override PartName="/ppt/media/push.wav" ContentType="audio/x-wav"/>
  <Override PartName="/ppt/media/image24.jpeg" ContentType="image/jpeg"/>
  <Override PartName="/ppt/media/drumroll.wav" ContentType="audio/x-wav"/>
  <Override PartName="/ppt/media/image18.png" ContentType="image/png"/>
  <Override PartName="/ppt/media/type.wav" ContentType="audio/x-wav"/>
  <Override PartName="/ppt/media/image6.jpeg" ContentType="image/jpeg"/>
  <Override PartName="/ppt/media/image5.png" ContentType="image/png"/>
  <Override PartName="/ppt/media/applause.wav" ContentType="audio/x-wav"/>
  <Override PartName="/ppt/media/image3.png" ContentType="image/png"/>
  <Override PartName="/ppt/media/image17.jpeg" ContentType="image/jpeg"/>
  <Override PartName="/ppt/media/laser.wav" ContentType="audio/x-wav"/>
  <Override PartName="/ppt/media/image11.png" ContentType="image/png"/>
  <Override PartName="/ppt/media/image25.png" ContentType="image/pn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7c05"/>
                </a:solidFill>
                <a:latin typeface="Trebuchet MS"/>
              </a:rPr>
              <a:t>Click to move the slide</a:t>
            </a: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803D-12FC-45B7-9D25-022D4853E4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81D1-9317-4280-9AC2-17D96C24C0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CBF5-DFDF-4E94-83D5-C581AEAE70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6838-A587-4502-9E4E-A5F6AC64A5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43B7-91ED-4808-BBF5-0B43BE4111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98DF-2FB0-4899-B0C0-24EF067870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76E6-FDF7-4DD4-BC55-E04A7A6B46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ADF6-2BAF-458E-B046-3708266150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306A-C475-4D64-A0BA-1BA7681374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4DA3-BC96-497D-98FB-4742B8FFC5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6DC9-5EA8-4334-9799-C3EF545A97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C17B-9BFD-49FE-B57A-EC15AF1885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3023-F7DD-420E-BD15-68BF45891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0F03-4BC2-4422-8DD1-3F5CEA5FE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C47E-0703-4255-B1F1-960DE7E8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F948-BBA8-4D0A-91CB-F32363783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271B-6EE1-446F-8CA6-CFA9CEE9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5EFD-AF13-444A-96F8-9292F484C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73D1-66D5-44BD-87C4-31CD88CA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7079-2730-4963-A3DD-C2B23AB4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F85C-DFFF-4966-AC74-873D041A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CB03-3CBE-4704-962F-47B3E958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5294-0E78-42E3-BDC2-A17A94C2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D870-A848-4FBA-BA52-FA48E7DD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DFA5-53AA-46F6-8321-A5F97DEC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0B06-8C95-467C-A770-BFD3FEA6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A5AD-0538-4410-93DB-DC510A2C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CDAE-7E60-48B3-9262-927F89E7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50A9-2F37-4CC0-802C-9C393F58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82A1-938E-439C-B7C1-91EFE3DAE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02E01-E60B-4ECC-B54C-1704D6480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DB4E1-B17D-4EB0-826A-C2BE31BC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F76CE-0820-4205-B919-A8F77FF5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35FAF-6703-42A8-816D-EA9BDD4E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D0EFB-C450-4E55-A0CE-E3F0821A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B3A6-ECB3-4A08-8EFF-7D1103FD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A55D4-069E-43A1-9008-DDE285FE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BBC97-DE34-4A27-B750-E6DFBA4E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7956A-F034-46C1-8BE0-0743F9E5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F244A-B62E-4DD8-8949-564769ED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C234C-DB25-4394-872D-BE7309BB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023EB-5933-4378-AF86-2B21AB1D8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EA4BD-45C0-4D01-8429-B948DC30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B5936-990B-4D31-ACAB-504F2293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E65AC-C604-4F85-BB56-4D75B967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171DF-BB41-4368-BE4A-1813A4C0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F671-EECD-4BE1-96C3-885D903C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7A434-8CFE-44BC-890F-2A7916DE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0E687-0808-4333-B055-C5971060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E5C54-C6EC-4664-8246-3A64186C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E7576-6E79-4251-845E-A70D40D9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9CBEE-13D9-496D-BDEB-1D668EE7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CB864-3051-4201-9739-0E6DBC85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C8446-54F6-4C89-9C76-CE4C7333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EF00C-AEC6-4C5F-A07D-007E6062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2E577-AF25-45EA-8E08-7A19B917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13C3A-EC57-4DD5-9278-43B5832BC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98B5-0E7E-43A6-BD1C-30CE4224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7DC12-FF7A-4190-A3F5-14BFF9F9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F4B8D-66EF-47BA-9C28-3459A8A7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F88B3-5CB7-4631-8A84-24AD3BAB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FE05F-C4B6-4568-938C-2FD02ABD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307AA-EDDA-4F1C-912D-B3A4CC35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89BA8-EE3A-4649-8AC5-0DFA81B7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ECA68-9CD9-460A-8192-9CCCAF32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99447-E857-445F-B829-A9042C1B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85C9A-71F7-4793-8A9F-664787B7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7D8C4-38B7-48CD-B6E1-F4B04461A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1182-E8A6-4EA1-B4F8-C0AD4632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38FD6-1996-47E5-A125-689C2C3B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D81DF-DC4C-4F0A-874B-0860F92BC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8165C-7DEB-476C-BF20-2350A3D2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073BB-21E8-4275-930C-B1F01648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D7E95-2FDA-4B8C-BD13-DFE4A06F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97A2D-D73F-4775-AE24-3ED89AE0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84A2D-8849-4A3C-ABEE-74BE34A5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012B5-97C4-4AC0-838C-86559F17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25B7A-CCA0-4C4A-A5BB-760F161E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A1479-94E7-4285-B13B-7B657B9E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5C76-80B6-42AC-9D29-561CBC56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65CED-0C0E-4092-803D-83F13BE2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8398C-CB0F-4DC1-B545-1A2D1E07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9C430-E12D-4263-B59E-FF9DEE25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D7A87-4B7C-4361-B61A-283CE1737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C2B71-FCDB-4938-BADC-D4FE042F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B2A8E-634E-4C12-A403-B2B9DC3F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FBDB6-6004-4196-BD5C-F30FAE8F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99D24-41CA-47AA-B373-FCCC7DE6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B149B-C6ED-44AB-BB59-132E89E7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9F442-9649-40C2-A2F8-52080AD1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684E-B6B9-463B-B0A3-D6C4B839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8F2EB-5D72-4B57-9CD4-781E1A9F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C119C-627D-4DFB-9AC9-8E0A0513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4FD1E-A1B7-4579-BCAA-463D5529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AA5CA-458D-4520-8952-2CEA2607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14156-02C6-4EC7-9482-5C051CF12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0867-88A2-431A-AE22-31570089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7c05"/>
                </a:solidFill>
                <a:latin typeface="Trebuchet MS"/>
              </a:rPr>
              <a:t>Click to edit the title text format</a:t>
            </a: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30080" indent="-272880">
              <a:buClr>
                <a:srgbClr val="7598d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995400" indent="-228600">
              <a:buClr>
                <a:srgbClr val="b32c1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216080" indent="-182520">
              <a:buClr>
                <a:srgbClr val="f5cd2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425600" indent="-182520">
              <a:buClr>
                <a:srgbClr val="aebad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9455-270B-41C9-9789-AFD13AF46AE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7c05"/>
                </a:solidFill>
                <a:latin typeface="Trebuchet MS"/>
              </a:rPr>
              <a:t>Click to edit the title text format</a:t>
            </a: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30080" indent="-272880">
              <a:buClr>
                <a:srgbClr val="7598d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995400" indent="-228600">
              <a:buClr>
                <a:srgbClr val="b32c1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216080" indent="-182520">
              <a:buClr>
                <a:srgbClr val="f5cd2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1425600" indent="-182520">
              <a:buClr>
                <a:srgbClr val="aebad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7213-4000-4422-9266-EF7DCED3DF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7c05"/>
                </a:solidFill>
                <a:latin typeface="Trebuchet MS"/>
              </a:rPr>
              <a:t>Click to edit the title text format</a:t>
            </a: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30080" indent="-272880">
              <a:buClr>
                <a:srgbClr val="7598d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995400" indent="-228600">
              <a:buClr>
                <a:srgbClr val="b32c1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216080" indent="-182520">
              <a:buClr>
                <a:srgbClr val="f5cd2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1425600" indent="-182520">
              <a:buClr>
                <a:srgbClr val="aebad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40B6-8466-4BAF-AA61-D959FEB145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7c05"/>
                </a:solidFill>
                <a:latin typeface="Trebuchet MS"/>
              </a:rPr>
              <a:t>Click to edit the title text format</a:t>
            </a: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30080" indent="-272880">
              <a:buClr>
                <a:srgbClr val="7598d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995400" indent="-228600">
              <a:buClr>
                <a:srgbClr val="b32c1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216080" indent="-182520">
              <a:buClr>
                <a:srgbClr val="f5cd2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425600" indent="-182520">
              <a:buClr>
                <a:srgbClr val="aebad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3339-8484-4540-96D0-6D761AF5FBF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7c05"/>
                </a:solidFill>
                <a:latin typeface="Trebuchet MS"/>
              </a:rPr>
              <a:t>Click to edit the title text format</a:t>
            </a: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30080" indent="-272880">
              <a:buClr>
                <a:srgbClr val="7598d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995400" indent="-228600">
              <a:buClr>
                <a:srgbClr val="b32c1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216080" indent="-182520">
              <a:buClr>
                <a:srgbClr val="f5cd2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425600" indent="-182520">
              <a:buClr>
                <a:srgbClr val="aebad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400D-B8CC-4270-8548-2C7CC151B05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7c05"/>
                </a:solidFill>
                <a:latin typeface="Trebuchet MS"/>
              </a:rPr>
              <a:t>Click to edit the title text format</a:t>
            </a: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30080" indent="-272880">
              <a:buClr>
                <a:srgbClr val="7598d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995400" indent="-228600">
              <a:buClr>
                <a:srgbClr val="b32c1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216080" indent="-182520">
              <a:buClr>
                <a:srgbClr val="f5cd2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425600" indent="-182520">
              <a:buClr>
                <a:srgbClr val="aebad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D7EF-EDE5-4EEE-8BA6-8FA6F05A7A5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7c05"/>
                </a:solidFill>
                <a:latin typeface="Trebuchet MS"/>
              </a:rPr>
              <a:t>Click to edit the title text format</a:t>
            </a: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30080" indent="-272880">
              <a:buClr>
                <a:srgbClr val="7598d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995400" indent="-228600">
              <a:buClr>
                <a:srgbClr val="b32c1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216080" indent="-182520">
              <a:buClr>
                <a:srgbClr val="f5cd2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425600" indent="-182520">
              <a:buClr>
                <a:srgbClr val="aebad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66FC-F40F-4360-BA3B-B2C8C4E3D3B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texasbeyondhistory.net/paso/images/FirstThanksgiving1.html" TargetMode="External"/><Relationship Id="rId3" Type="http://schemas.openxmlformats.org/officeDocument/2006/relationships/hyperlink" Target="http://www.texasbeyondhistory.net/paso/images/FirstThanksgiving1.html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ysletamission.org/wp-content/uploads/tower.jpg" TargetMode="External"/><Relationship Id="rId3" Type="http://schemas.openxmlformats.org/officeDocument/2006/relationships/hyperlink" Target="http://ysletamission.org/wp-content/uploads/tower.jpg" TargetMode="External"/><Relationship Id="rId4" Type="http://schemas.openxmlformats.org/officeDocument/2006/relationships/image" Target="../media/image15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208080" y="3060720"/>
            <a:ext cx="8564400" cy="1974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5257800" y="5334120"/>
            <a:ext cx="3124080" cy="12952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haroni"/>
                <a:ea typeface="Aharoni"/>
              </a:rPr>
              <a:t>By:</a:t>
            </a:r>
            <a:endParaRPr b="0" lang="en-US" sz="1700" spc="-1" strike="noStrike">
              <a:solidFill>
                <a:srgbClr val="ffffff"/>
              </a:solidFill>
              <a:latin typeface="Georg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eorg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haroni"/>
                <a:ea typeface="Aharoni"/>
              </a:rPr>
              <a:t>Reece Mayfield</a:t>
            </a:r>
            <a:endParaRPr b="0" lang="en-US" sz="1700" spc="-1" strike="noStrike">
              <a:solidFill>
                <a:srgbClr val="ffffff"/>
              </a:solidFill>
              <a:latin typeface="Georg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haroni"/>
                <a:ea typeface="Aharoni"/>
              </a:rPr>
              <a:t>Mrs. Smalley</a:t>
            </a:r>
            <a:endParaRPr b="0" lang="en-US" sz="1700" spc="-1" strike="noStrike">
              <a:solidFill>
                <a:srgbClr val="ffffff"/>
              </a:solidFill>
              <a:latin typeface="Georg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haroni"/>
                <a:ea typeface="Aharoni"/>
              </a:rPr>
              <a:t>October </a:t>
            </a:r>
            <a:r>
              <a:rPr b="0" lang="en-US" sz="2900" spc="-1" strike="noStrike">
                <a:solidFill>
                  <a:srgbClr val="ffffff"/>
                </a:solidFill>
                <a:latin typeface="Aharoni"/>
                <a:ea typeface="Aharoni"/>
              </a:rPr>
              <a:t>22, 2011</a:t>
            </a:r>
            <a:endParaRPr b="0" lang="en-US" sz="2900" spc="-1" strike="noStrike">
              <a:solidFill>
                <a:srgbClr val="ffffff"/>
              </a:solidFill>
              <a:latin typeface="Georgia"/>
            </a:endParaRPr>
          </a:p>
        </p:txBody>
      </p:sp>
      <p:cxnSp>
        <p:nvCxnSpPr>
          <p:cNvPr id="312" name="Elbow Connector 6"/>
          <p:cNvCxnSpPr/>
          <p:nvPr/>
        </p:nvCxnSpPr>
        <p:spPr>
          <a:xfrm rot="5400000">
            <a:off x="5829480" y="2551680"/>
            <a:ext cx="76680" cy="2520"/>
          </a:xfrm>
          <a:prstGeom prst="bentConnector3">
            <a:avLst>
              <a:gd name="adj1" fmla="val 50000"/>
            </a:avLst>
          </a:prstGeom>
          <a:ln w="10080">
            <a:solidFill>
              <a:srgbClr val="fe8637"/>
            </a:solidFill>
            <a:miter/>
          </a:ln>
        </p:spPr>
      </p:cxnSp>
    </p:spTree>
  </p:cSld>
  <p:transition spd="med">
    <p:diamond/>
    <p:sndAc>
      <p:stSnd>
        <p:snd r:embed="rId2" name="lase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Title 1" descr=""/>
          <p:cNvPicPr/>
          <p:nvPr/>
        </p:nvPicPr>
        <p:blipFill>
          <a:blip r:embed="rId1"/>
          <a:stretch/>
        </p:blipFill>
        <p:spPr>
          <a:xfrm>
            <a:off x="249120" y="152280"/>
            <a:ext cx="8682120" cy="12621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3276720" y="1523520"/>
            <a:ext cx="5333760" cy="3505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In 1680 Tigua Indians helped drive the Spanish out of New Mexico and down to El Paso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The Spanish King gave them a grant of land around their Pueblo. This gave them title to the land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The Tigua are the only Pueblo tribe still in Texas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The Tigua also have contributed to Texas culture through their art and dance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AutoShape 6">
            <a:hlinkClick r:id="rId2"/>
          </p:cNvPr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8">
            <a:hlinkClick r:id="rId3"/>
          </p:cNvPr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3" descr="C:\Users\Mayfield\Pictures\FirstThanksgiving1-sm[1].jpg"/>
          <p:cNvPicPr/>
          <p:nvPr/>
        </p:nvPicPr>
        <p:blipFill>
          <a:blip r:embed="rId4"/>
          <a:stretch/>
        </p:blipFill>
        <p:spPr>
          <a:xfrm>
            <a:off x="457200" y="1981080"/>
            <a:ext cx="2540160" cy="38484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4" descr="C:\Users\Mayfield\Pictures\icon-index[1].jpg"/>
          <p:cNvPicPr/>
          <p:nvPr/>
        </p:nvPicPr>
        <p:blipFill>
          <a:blip r:embed="rId5"/>
          <a:stretch/>
        </p:blipFill>
        <p:spPr>
          <a:xfrm>
            <a:off x="3352680" y="4952880"/>
            <a:ext cx="5210280" cy="175284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6" name="hamme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808840" cy="12621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609120" y="1676160"/>
            <a:ext cx="7696440" cy="33526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In 1848, crooked settlers stole much of the Tigua land from them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The State of Texas ignored the Spanish land grant and title of the land to the Tigua Indians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Most of El Paso is built on land taken from the Tigua. This left the Tigua very poor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Only the land around the Ysleta mission and their houses is still theirs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4" name="Picture 5" descr="C:\Users\Mayfield\Pictures\XZUEO7CAX96VOVCASNNQNBCAHD1HNZCAAW9UAQCABOFPHECAZWI5E4CAQOL6FXCAYKHA0LCAGWPD69CAXH4ZT0CASFWIOSCAX97GWACA7YC11ECA93Y9W0CAGWJXCXCA5PUFE9CA2MJRUICAF8CH8M.jpg"/>
          <p:cNvPicPr/>
          <p:nvPr/>
        </p:nvPicPr>
        <p:blipFill>
          <a:blip r:embed="rId2"/>
          <a:stretch/>
        </p:blipFill>
        <p:spPr>
          <a:xfrm>
            <a:off x="2666880" y="4572000"/>
            <a:ext cx="4114800" cy="20574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3" name="push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ttp://www.bigorrin.org/pueblo_kids.htm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ttp://dnn.epcc.edu/nwlibrary/borderlands/17_tigua_indians.htm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ttp://livebinders.com/play/play_shared_binder/32036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ttp://www.texasindians.com/tigua.htm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randomBar dir="horz"/>
    <p:sndAc>
      <p:stSnd>
        <p:snd r:embed="rId2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6840" y="1523880"/>
            <a:ext cx="51814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Tigua first lived in Pueblo Gran Quivera, which is north of El Paso in the Manzano Mountains southeast of Albuquerque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ost of El Paso is built on land taken from the Tigua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y still live in El Paso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AutoShape 2"/>
          <p:cNvSpPr/>
          <p:nvPr/>
        </p:nvSpPr>
        <p:spPr>
          <a:xfrm>
            <a:off x="144360" y="-1447920"/>
            <a:ext cx="484848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>
            <a:off x="144360" y="-1447920"/>
            <a:ext cx="484848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144360" y="-1447920"/>
            <a:ext cx="484848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C:\Users\Mayfield\Pictures\maptig.jpg"/>
          <p:cNvPicPr/>
          <p:nvPr/>
        </p:nvPicPr>
        <p:blipFill>
          <a:blip r:embed="rId2"/>
          <a:stretch/>
        </p:blipFill>
        <p:spPr>
          <a:xfrm>
            <a:off x="5715000" y="1828800"/>
            <a:ext cx="320040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  <p:sndAc>
      <p:stSnd>
        <p:snd r:embed="rId3" name="breez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77444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iguas were good farmers and hunters.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429120" indent="-31248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ey raised corn, beans, squash, and sunflowers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429120" indent="-31248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ey hunted deer, antelope, and small animals like rabbits 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429120" indent="-31248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ey also gathered nuts, fruits, and herbs.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429120" indent="-31248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eir favorite food were hominy, popcorn, baked beans, soups, and cornbread.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1" name="Picture 2" descr="C:\Users\Mayfield\Pictures\pubhs1[1].jpg"/>
          <p:cNvPicPr/>
          <p:nvPr/>
        </p:nvPicPr>
        <p:blipFill>
          <a:blip r:embed="rId2"/>
          <a:stretch/>
        </p:blipFill>
        <p:spPr>
          <a:xfrm>
            <a:off x="2209680" y="4876920"/>
            <a:ext cx="3962520" cy="175248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suction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3886200" y="1904760"/>
            <a:ext cx="4495680" cy="38098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guas like to hunt and fish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98520" indent="-290160"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y like storytelling, music and art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98520" indent="-290160"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y are good at making pottery, jewelry, and baskets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4" name="Picture 2" descr="C:\Users\Mayfield\Pictures\31N12CCARWI0QHCA1D3BDGCABLJMSRCA823P3SCAX5KOVQCAW0SN9QCAR41KXMCAMW31GKCARNLX9KCAEEW353CATBWBA8CASLYDL1CA10OCENCAQNQAO6CAYJTX66CAE3QZW0CA4O4UBSCAOGI96V.jpg"/>
          <p:cNvPicPr/>
          <p:nvPr/>
        </p:nvPicPr>
        <p:blipFill>
          <a:blip r:embed="rId2"/>
          <a:stretch/>
        </p:blipFill>
        <p:spPr>
          <a:xfrm>
            <a:off x="762120" y="1676520"/>
            <a:ext cx="2693880" cy="4190760"/>
          </a:xfrm>
          <a:prstGeom prst="rect">
            <a:avLst/>
          </a:prstGeom>
          <a:ln w="0">
            <a:noFill/>
          </a:ln>
        </p:spPr>
      </p:pic>
    </p:spTree>
  </p:cSld>
  <p:transition>
    <p:wheel spokes="3"/>
    <p:sndAc>
      <p:stSnd>
        <p:snd r:embed="rId3" name="voltag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01760" y="152280"/>
            <a:ext cx="8370720" cy="12621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837720" y="1904760"/>
            <a:ext cx="4800600" cy="3886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Tigua perform many of the old ceremonies, dances and song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lnSpc>
                <a:spcPct val="9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They have a drum that is very old that is used in these ceremonie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lnSpc>
                <a:spcPct val="9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The drum has been handed down for generations and no one knows how old it i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7" name="Picture 5" descr="C:\Users\Mayfield\Pictures\7UDQTOCAV8KR7LCAZHPF2DCAQ22HNOCA2D2RWDCA487W3HCAJQVR1PCAM7T4JCCA1NPHX4CA09DLPVCADAJMZYCA14MSW0CAASRN1ECADUVLQXCA4DFT62CA46KN9FCASYTTZKCAACP1S1CACYSVJI.jpg"/>
          <p:cNvPicPr/>
          <p:nvPr/>
        </p:nvPicPr>
        <p:blipFill>
          <a:blip r:embed="rId2"/>
          <a:stretch/>
        </p:blipFill>
        <p:spPr>
          <a:xfrm>
            <a:off x="5715000" y="2362320"/>
            <a:ext cx="2952720" cy="32004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3" name="drumroll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C:\Users\Mayfield\Pictures\Z56I7LCANF13Z3CARKXTOTCA6V3CQDCAA6VF5JCAMMUX2WCA5OMUYECA3SJT4ECAC11RQVCA5S1B8VCAQE0D3BCADZBZRQCACU3VRACAZ4GKLRCADVLR09CAWBENZ4CA7M4L5MCANCLMB4CAFP1LSW.jpg"/>
          <p:cNvPicPr/>
          <p:nvPr/>
        </p:nvPicPr>
        <p:blipFill>
          <a:blip r:embed="rId2"/>
          <a:stretch/>
        </p:blipFill>
        <p:spPr>
          <a:xfrm>
            <a:off x="5715000" y="4419720"/>
            <a:ext cx="2514600" cy="1981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C:\Users\Mayfield\Pictures\PPWJTICA4NWTBBCA5G63N7CABV3796CAJ835QWCAR14UNCCANR4SQ7CADMWH3YCA71MRR3CA1R5KB9CAE7T7YZCAGHZ8LJCAZEN23JCAB8T8DICA0UG6UJCA91ZCZUCA2ANPDCCAJM998KCA9DE0TN.jpg"/>
          <p:cNvPicPr/>
          <p:nvPr/>
        </p:nvPicPr>
        <p:blipFill>
          <a:blip r:embed="rId3"/>
          <a:stretch/>
        </p:blipFill>
        <p:spPr>
          <a:xfrm>
            <a:off x="5638680" y="1828800"/>
            <a:ext cx="2600280" cy="22096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6840" y="1774800"/>
            <a:ext cx="4419720" cy="4168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lnSpc>
                <a:spcPct val="9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e Tigua Indians like to dance. 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429120" indent="-312480">
              <a:lnSpc>
                <a:spcPct val="9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In the dances, they have north, south, east, and west to honor all directions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429120" indent="-312480">
              <a:lnSpc>
                <a:spcPct val="9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e Butterfly Dance is held around Easter to give thanks to nature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Content Placeholder 2"/>
          <p:cNvSpPr/>
          <p:nvPr/>
        </p:nvSpPr>
        <p:spPr>
          <a:xfrm>
            <a:off x="4648320" y="3962520"/>
            <a:ext cx="4038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marL="438120" indent="-31896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3352320" y="1774440"/>
            <a:ext cx="5334120" cy="4778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Tigua Indians go to Catholic mass at the mission church. Saint Anthony is their patron saint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In 1682, Tiguas had become Christians and built a mission church at Ysleta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The Ysleta mission is the oldest church in Texas and the oldest mission in Texas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Important religious ceremonies also are done at every stage of the farming season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AutoShape 2">
            <a:hlinkClick r:id="rId2"/>
          </p:cNvPr>
          <p:cNvSpPr/>
          <p:nvPr/>
        </p:nvSpPr>
        <p:spPr>
          <a:xfrm>
            <a:off x="144360" y="-1371600"/>
            <a:ext cx="189540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4">
            <a:hlinkClick r:id="rId3"/>
          </p:cNvPr>
          <p:cNvSpPr/>
          <p:nvPr/>
        </p:nvSpPr>
        <p:spPr>
          <a:xfrm>
            <a:off x="144360" y="-1371600"/>
            <a:ext cx="189540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5" descr="C:\Users\Mayfield\Pictures\tower-199x300[1].jpg"/>
          <p:cNvPicPr/>
          <p:nvPr/>
        </p:nvPicPr>
        <p:blipFill>
          <a:blip r:embed="rId4"/>
          <a:stretch/>
        </p:blipFill>
        <p:spPr>
          <a:xfrm>
            <a:off x="533520" y="1981080"/>
            <a:ext cx="2895480" cy="4191120"/>
          </a:xfrm>
          <a:prstGeom prst="rect">
            <a:avLst/>
          </a:prstGeom>
          <a:ln w="0">
            <a:noFill/>
          </a:ln>
        </p:spPr>
      </p:pic>
    </p:spTree>
  </p:cSld>
  <p:transition>
    <p:pull dir="ru"/>
    <p:sndAc>
      <p:stSnd>
        <p:snd r:embed="rId5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2209680" y="17521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The main difference between Tigua Indians and other Indian tribes are their houses.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Tigua Indians build Pueblos.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Many families live in one Pueblo.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Many Pueblos had hundreds of people living in them.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Some Pueblos were 4 or 5 stories high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0" name="Picture 4" descr="C:\Users\Mayfield\Pictures\OIY1LCCAMBN8UICAR47FXBCAU6BBX4CAIANKN5CA0A31Q6CAJVK1SZCAHJQBYFCA4IHP33CAD9LF8LCA6QSSAWCAYT0M1ZCAX85YDECATMS50NCA5BP1CUCA699RIMCA9D22DQCABWW3QQCAH5PDGN.jpg"/>
          <p:cNvPicPr/>
          <p:nvPr/>
        </p:nvPicPr>
        <p:blipFill>
          <a:blip r:embed="rId2"/>
          <a:stretch/>
        </p:blipFill>
        <p:spPr>
          <a:xfrm>
            <a:off x="228600" y="2209680"/>
            <a:ext cx="19051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762120" y="175212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Pueblo is Spanish and means "town"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lnSpc>
                <a:spcPct val="9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A Pueblo is also a big building with many rooms in it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lnSpc>
                <a:spcPct val="9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3" name="Picture 2" descr="C:\Users\Mayfield\Pictures\pueblo1[1].jpg"/>
          <p:cNvPicPr/>
          <p:nvPr/>
        </p:nvPicPr>
        <p:blipFill>
          <a:blip r:embed="rId2"/>
          <a:stretch/>
        </p:blipFill>
        <p:spPr>
          <a:xfrm>
            <a:off x="1752480" y="3733920"/>
            <a:ext cx="5181840" cy="281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21:54:02Z</dcterms:created>
  <dc:creator>Mayfield</dc:creator>
  <dc:description/>
  <dc:language>en-US</dc:language>
  <cp:lastModifiedBy>Mayfield</cp:lastModifiedBy>
  <dcterms:modified xsi:type="dcterms:W3CDTF">2011-10-21T11:54:03Z</dcterms:modified>
  <cp:revision>42</cp:revision>
  <dc:subject/>
  <dc:title>Slide 1</dc:title>
</cp:coreProperties>
</file>